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3AB72-644D-4B69-BBCE-DAEAFF3B641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pace Exploration</a:t>
            </a:r>
            <a:br>
              <a:rPr sz="1800"/>
            </a:b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Past, Present, Fu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11084-4E59-42AD-8804-A882DA98CBF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The Futur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Exploration at greater distan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Extended stay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Humans need to be ready and educated for the space travel of the fu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E83AB-1040-4576-9779-C1B669BC937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ome Difficulties Includ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Radiation expos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Lunar du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Food and Nutr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Exerci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iffering levels of pressure, atmosphere composition, and grav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leep lo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Risk of bone fra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Reduced muscle ma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Reduced aerobic capac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Mental disorders arising from extreme, confined, and isolated condi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1F273-1272-4961-A9EB-7A793473681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pace Exploration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The Big Pictur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pace exploration is still in infancy. Although we have learned a lot, we still have a lot of quest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The cost of space exploration mandates that we work together with other countri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Example: International Space Station (IS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6F012-6BFC-4A5A-938B-0FE94AFAD3F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NASA</a:t>
            </a:r>
            <a:br>
              <a:rPr sz="3200"/>
            </a:b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National A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Accomplishment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First to land someone on the mo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Invented the space shutt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eveloped many products for space that we now use as everyday produc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Example: Velcr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eronautics and Space Administr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FFF9F-1B9A-4713-B332-C47B81D3509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e Are C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…and so we study space. Things that we need to know about space exploration includ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Rocke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Artificial satelli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pace prob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pace st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pace shutt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Remote sensoring devi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pace sui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Rad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Comput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Fuel sour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Landing modu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Materials that can survive heat and press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olar pa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Living quart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Biomedical equip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Air purification devi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Telesco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And many more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7EB39-C7C0-4902-8E6B-0922FB0FDE9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pace Exploration History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The space age began on October 4, 1957, when the Soviet Union launched Sputnik, the first artificial satellite to orbit Eart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The Soviets also achieved the first piloted space flight on April 12, 196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The first cosmonaut was Yuri Gagarin. He orbited Earth in a ship named Vosto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B129B-10AE-45E6-B06A-A51319DA8F6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Let’s Go to the Moon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Apollo 8 orbited the moon 10 times and returned to Earth safely on December 21, 196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Neil Armstrong and Buzz Aldrin landed Apollo 11 on the moon on July 20, 1969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Neil Armstrong was the first person to set foot on the mo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The laptops in our classroom are more powerful than the computers used to run the Apollo program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E536D-9215-4BE7-B551-4F2261D4641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pace Shuttles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A space shuttle is a reusable space craf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First used in 198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Able to land on an ordinary airfiel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Two shuttle tragedies in 1987 and 200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huttles replaced the previous method of space flight – Rockets and capsul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ECC91-055B-4692-B3C9-47D9D8D8B91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Our ability to achieve our space goals became an indicator of our status as a great nation, and the Soviets were our top competito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This occurred during a time in our history known as the Cold Wa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This was a time when our relationship with the Soviets was, well, col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The intense rivalry between our two countries led us to some amazing accomplishmen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Khrushchev &amp; Kenned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81878-838B-4107-AFCC-9B7C0FFDDB3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We need both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We need balan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Probes can make space flight cheaper, safer, and fas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Human pilots can make decisions when things don’t go as plann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38F74-0E47-4E19-A61E-AF88DA0800C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222CF-BCD3-439E-8C59-6B19A6434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21037-ED1A-46D0-89AB-5B538719D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541D6-42C0-4E4C-80EC-7645FB1C1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A0B44-C53D-4353-AF99-05260CED2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2E88E-0120-4F14-A2EE-6BA6A1751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3934B-A6DA-4D8F-8952-56D933BDC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10AF4-4088-4F7A-BD2C-16FF0D734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98CA1-14EB-4C62-A3F4-712EDC216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E2F9E-4405-444F-BEC2-F3C88F3C5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BF092-DA18-43EB-A230-E84A47EF9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06989-6F26-4BED-8B35-53BA2A924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881DA-3CB0-4CA2-BB29-6C1D01F5F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4B310-C3ED-488A-941B-42AB8C0D458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C0CD3-194D-4239-8464-17FA6236A5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"/>
          <p:cNvPicPr/>
          <p:nvPr/>
        </p:nvPicPr>
        <p:blipFill>
          <a:blip r:embed="rId1"/>
          <a:stretch/>
        </p:blipFill>
        <p:spPr>
          <a:xfrm>
            <a:off x="5638680" y="2209680"/>
            <a:ext cx="3048120" cy="23004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Space Exploration</a:t>
            </a:r>
            <a:br>
              <a:rPr sz="6000"/>
            </a:b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Past, Present, Fu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2"/>
          <a:stretch/>
        </p:blipFill>
        <p:spPr>
          <a:xfrm>
            <a:off x="533520" y="2209680"/>
            <a:ext cx="3001680" cy="19814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" descr=""/>
          <p:cNvPicPr/>
          <p:nvPr/>
        </p:nvPicPr>
        <p:blipFill>
          <a:blip r:embed="rId3"/>
          <a:stretch/>
        </p:blipFill>
        <p:spPr>
          <a:xfrm>
            <a:off x="2743200" y="3886200"/>
            <a:ext cx="3352680" cy="2158920"/>
          </a:xfrm>
          <a:prstGeom prst="rect">
            <a:avLst/>
          </a:prstGeom>
          <a:ln w="0">
            <a:noFill/>
          </a:ln>
        </p:spPr>
      </p:pic>
      <p:sp>
        <p:nvSpPr>
          <p:cNvPr id="5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bri"/>
              </a:rPr>
              <a:t>The Futur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extBox 3"/>
          <p:cNvSpPr/>
          <p:nvPr/>
        </p:nvSpPr>
        <p:spPr>
          <a:xfrm>
            <a:off x="228600" y="1523880"/>
            <a:ext cx="41148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Exploration at greater distan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Extended stay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Humans need to be ready and educated for the space travel of the fu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2" descr=""/>
          <p:cNvPicPr/>
          <p:nvPr/>
        </p:nvPicPr>
        <p:blipFill>
          <a:blip r:embed="rId1"/>
          <a:stretch/>
        </p:blipFill>
        <p:spPr>
          <a:xfrm>
            <a:off x="4876920" y="2438280"/>
            <a:ext cx="3733560" cy="3419640"/>
          </a:xfrm>
          <a:prstGeom prst="rect">
            <a:avLst/>
          </a:prstGeom>
          <a:ln w="0">
            <a:noFill/>
          </a:ln>
        </p:spPr>
      </p:pic>
      <p:sp>
        <p:nvSpPr>
          <p:cNvPr id="9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bri"/>
              </a:rPr>
              <a:t>Some Difficulties Includ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extBox 3"/>
          <p:cNvSpPr/>
          <p:nvPr/>
        </p:nvSpPr>
        <p:spPr>
          <a:xfrm>
            <a:off x="228600" y="1523880"/>
            <a:ext cx="800100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Radiation expo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Lunar du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ood and Nutr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Exerc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Differing levels of pressure, atmosphere composition, and gra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leep lo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Risk of bone fra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Reduced muscle m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Reduced aerobic capa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Mental disorders arising from extreme, confined, and isolated condi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Space Exploration</a:t>
            </a:r>
            <a:br>
              <a:rPr sz="6000"/>
            </a:b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The Big Pi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3"/>
          <p:cNvSpPr/>
          <p:nvPr/>
        </p:nvSpPr>
        <p:spPr>
          <a:xfrm>
            <a:off x="304920" y="2362320"/>
            <a:ext cx="853416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pace exploration is still in infancy. Although we have learned a lot, we still have a lot of ques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cost of space exploration mandates that we work together with other countri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Example: International Space Station (I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NASA</a:t>
            </a:r>
            <a:br>
              <a:rPr sz="6000"/>
            </a:b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National Aeronautics and Space Administr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Box 3"/>
          <p:cNvSpPr/>
          <p:nvPr/>
        </p:nvSpPr>
        <p:spPr>
          <a:xfrm>
            <a:off x="304920" y="2362320"/>
            <a:ext cx="51814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ccomplish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irst to land someone on the mo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Invented the space shut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Developed many products for space that we now use as everyday produ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Example: Velc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495600" cy="2971800"/>
          </a:xfrm>
          <a:prstGeom prst="rect">
            <a:avLst/>
          </a:prstGeom>
          <a:ln w="0">
            <a:noFill/>
          </a:ln>
        </p:spPr>
      </p:pic>
      <p:sp>
        <p:nvSpPr>
          <p:cNvPr id="5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We Are Curious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3"/>
          <p:cNvSpPr/>
          <p:nvPr/>
        </p:nvSpPr>
        <p:spPr>
          <a:xfrm>
            <a:off x="380880" y="1371600"/>
            <a:ext cx="38862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…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nd so we study space. Things that we need to know about space exploration inclu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Rock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rtificial satelli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pace prob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pace s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pace shutt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Remote sensoring de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pace su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4"/>
          <p:cNvSpPr/>
          <p:nvPr/>
        </p:nvSpPr>
        <p:spPr>
          <a:xfrm>
            <a:off x="4724280" y="1371600"/>
            <a:ext cx="38862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Rad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ompu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uel 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Landing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Materials that can survive heat and pres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olar pan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Living quar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Biomedical equi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ir purification de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elesco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nd many mor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Space Exploration Histo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Box 3"/>
          <p:cNvSpPr/>
          <p:nvPr/>
        </p:nvSpPr>
        <p:spPr>
          <a:xfrm>
            <a:off x="3809880" y="1295280"/>
            <a:ext cx="518184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e space age began on October 4, 1957, when the Soviet Union launched Sputnik, the first artificial satellite to orbit Eart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e Soviets also achieved the first piloted space flight on April 12, 196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e first cosmonaut was Yuri Gagarin. He orbited Earth in a ship named Vosto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3" descr=""/>
          <p:cNvPicPr/>
          <p:nvPr/>
        </p:nvPicPr>
        <p:blipFill>
          <a:blip r:embed="rId1"/>
          <a:stretch/>
        </p:blipFill>
        <p:spPr>
          <a:xfrm>
            <a:off x="1143000" y="1371600"/>
            <a:ext cx="2286000" cy="30765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4" descr=""/>
          <p:cNvPicPr/>
          <p:nvPr/>
        </p:nvPicPr>
        <p:blipFill>
          <a:blip r:embed="rId2"/>
          <a:stretch/>
        </p:blipFill>
        <p:spPr>
          <a:xfrm>
            <a:off x="380880" y="3809880"/>
            <a:ext cx="1938600" cy="2819520"/>
          </a:xfrm>
          <a:prstGeom prst="rect">
            <a:avLst/>
          </a:prstGeom>
          <a:ln w="0">
            <a:noFill/>
          </a:ln>
        </p:spPr>
      </p:pic>
      <p:sp>
        <p:nvSpPr>
          <p:cNvPr id="68" name="Oval Callout 7"/>
          <p:cNvSpPr/>
          <p:nvPr/>
        </p:nvSpPr>
        <p:spPr>
          <a:xfrm>
            <a:off x="2057400" y="4648320"/>
            <a:ext cx="1828800" cy="1904760"/>
          </a:xfrm>
          <a:prstGeom prst="wedgeEllipseCallout">
            <a:avLst>
              <a:gd name="adj1" fmla="val -79148"/>
              <a:gd name="adj2" fmla="val -39254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I got thi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bri"/>
              </a:rPr>
              <a:t>Let’s Go to the Moo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Box 3"/>
          <p:cNvSpPr/>
          <p:nvPr/>
        </p:nvSpPr>
        <p:spPr>
          <a:xfrm>
            <a:off x="4876920" y="1371600"/>
            <a:ext cx="403848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Apollo 8 orbited the moon 10 times and returned to Earth safely on December 21, 196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Neil Armstrong and Buzz Aldrin landed Apollo 11 on the moon on July 20, 1969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Neil Armstrong was the first person to set foot on the mo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The laptops in our classroom are more powerful than the computers used to run the Apollo program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>
            <a:off x="152280" y="1828800"/>
            <a:ext cx="4448160" cy="4495680"/>
          </a:xfrm>
          <a:prstGeom prst="rect">
            <a:avLst/>
          </a:prstGeom>
          <a:ln w="0">
            <a:noFill/>
          </a:ln>
        </p:spPr>
      </p:pic>
      <p:sp>
        <p:nvSpPr>
          <p:cNvPr id="7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bri"/>
              </a:rPr>
              <a:t>Space Shuttle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TextBox 3"/>
          <p:cNvSpPr/>
          <p:nvPr/>
        </p:nvSpPr>
        <p:spPr>
          <a:xfrm>
            <a:off x="304920" y="1523880"/>
            <a:ext cx="403848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 space shuttle is a reusable space craf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irst used in 198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ble to land on an ordinary airfiel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wo shuttle tragedies in 1987 and 200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huttles replaced the previous method of space flight – Rockets and capsu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2" descr=""/>
          <p:cNvPicPr/>
          <p:nvPr/>
        </p:nvPicPr>
        <p:blipFill>
          <a:blip r:embed="rId1"/>
          <a:stretch/>
        </p:blipFill>
        <p:spPr>
          <a:xfrm>
            <a:off x="4724280" y="1523880"/>
            <a:ext cx="3962520" cy="31705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3" descr=""/>
          <p:cNvPicPr/>
          <p:nvPr/>
        </p:nvPicPr>
        <p:blipFill>
          <a:blip r:embed="rId2"/>
          <a:stretch/>
        </p:blipFill>
        <p:spPr>
          <a:xfrm>
            <a:off x="5257800" y="4876920"/>
            <a:ext cx="142884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4" descr=""/>
          <p:cNvPicPr/>
          <p:nvPr/>
        </p:nvPicPr>
        <p:blipFill>
          <a:blip r:embed="rId3"/>
          <a:stretch/>
        </p:blipFill>
        <p:spPr>
          <a:xfrm>
            <a:off x="6781680" y="3962520"/>
            <a:ext cx="2095560" cy="2657520"/>
          </a:xfrm>
          <a:prstGeom prst="rect">
            <a:avLst/>
          </a:prstGeom>
          <a:ln w="0">
            <a:noFill/>
          </a:ln>
        </p:spPr>
      </p:pic>
      <p:sp>
        <p:nvSpPr>
          <p:cNvPr id="79" name="Right Arrow 7"/>
          <p:cNvSpPr/>
          <p:nvPr/>
        </p:nvSpPr>
        <p:spPr>
          <a:xfrm>
            <a:off x="3505320" y="5791320"/>
            <a:ext cx="1828800" cy="838080"/>
          </a:xfrm>
          <a:prstGeom prst="rightArrow">
            <a:avLst>
              <a:gd name="adj1" fmla="val 50000"/>
              <a:gd name="adj2" fmla="val 50007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269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270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271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27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273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bri"/>
              </a:rPr>
              <a:t>The Space Race and Cold War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Box 3"/>
          <p:cNvSpPr/>
          <p:nvPr/>
        </p:nvSpPr>
        <p:spPr>
          <a:xfrm>
            <a:off x="4724280" y="1295280"/>
            <a:ext cx="411480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Our ability to achieve our space goals became an indicator of our status as a great nation, and the Soviets were our top competito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is occurred during a time in our history known as the Cold W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is was a time when our relationship with the Soviets was, well, co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e intense rivalry between our two countries led us to some amazing accomplish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3" descr=""/>
          <p:cNvPicPr/>
          <p:nvPr/>
        </p:nvPicPr>
        <p:blipFill>
          <a:blip r:embed="rId1"/>
          <a:stretch/>
        </p:blipFill>
        <p:spPr>
          <a:xfrm>
            <a:off x="380880" y="2133720"/>
            <a:ext cx="4019760" cy="3124080"/>
          </a:xfrm>
          <a:prstGeom prst="rect">
            <a:avLst/>
          </a:prstGeom>
          <a:ln w="0">
            <a:noFill/>
          </a:ln>
        </p:spPr>
      </p:pic>
      <p:sp>
        <p:nvSpPr>
          <p:cNvPr id="84" name="TextBox 6"/>
          <p:cNvSpPr/>
          <p:nvPr/>
        </p:nvSpPr>
        <p:spPr>
          <a:xfrm>
            <a:off x="852120" y="5867280"/>
            <a:ext cx="305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Khrushchev &amp; Kenne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bri"/>
              </a:rPr>
              <a:t>Probes Vs. Human Pilot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TextBox 3"/>
          <p:cNvSpPr/>
          <p:nvPr/>
        </p:nvSpPr>
        <p:spPr>
          <a:xfrm>
            <a:off x="685800" y="1600200"/>
            <a:ext cx="80773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Probes can make space flight cheaper, safer, and fa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Human pilots can make decisions when things don’t go as plann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2" descr=""/>
          <p:cNvPicPr/>
          <p:nvPr/>
        </p:nvPicPr>
        <p:blipFill>
          <a:blip r:embed="rId1"/>
          <a:stretch/>
        </p:blipFill>
        <p:spPr>
          <a:xfrm>
            <a:off x="1447920" y="3733920"/>
            <a:ext cx="2095560" cy="24764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3" descr=""/>
          <p:cNvPicPr/>
          <p:nvPr/>
        </p:nvPicPr>
        <p:blipFill>
          <a:blip r:embed="rId2"/>
          <a:stretch/>
        </p:blipFill>
        <p:spPr>
          <a:xfrm>
            <a:off x="5181480" y="3048120"/>
            <a:ext cx="2762280" cy="3552840"/>
          </a:xfrm>
          <a:prstGeom prst="rect">
            <a:avLst/>
          </a:prstGeom>
          <a:ln w="0">
            <a:noFill/>
          </a:ln>
        </p:spPr>
      </p:pic>
      <p:pic>
        <p:nvPicPr>
          <p:cNvPr id="90" name="Rectangle 7" descr=""/>
          <p:cNvPicPr/>
          <p:nvPr/>
        </p:nvPicPr>
        <p:blipFill>
          <a:blip r:embed="rId3"/>
          <a:stretch/>
        </p:blipFill>
        <p:spPr>
          <a:xfrm>
            <a:off x="1554120" y="2077920"/>
            <a:ext cx="5992920" cy="2347920"/>
          </a:xfrm>
          <a:prstGeom prst="rect">
            <a:avLst/>
          </a:prstGeom>
          <a:ln w="0">
            <a:noFill/>
          </a:ln>
        </p:spPr>
      </p:pic>
      <p:sp>
        <p:nvSpPr>
          <p:cNvPr id="9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1T20:10:00Z</dcterms:created>
  <dc:creator> </dc:creator>
  <dc:description/>
  <dc:language>en-US</dc:language>
  <cp:lastModifiedBy>Legion</cp:lastModifiedBy>
  <dcterms:modified xsi:type="dcterms:W3CDTF">2017-01-26T09:21:36Z</dcterms:modified>
  <cp:revision>46</cp:revision>
  <dc:subject/>
  <dc:title>Space Exploration Past, Present, Future</dc:title>
</cp:coreProperties>
</file>